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829-1230-46DD-B033-14D4F283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B2B4-70BC-4AE8-A673-73F064EE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7D7-41AF-408C-AD5A-6CD3E5CD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D5D-702E-4970-B1D0-D89B8C41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C0F-3ACC-49EA-BCA9-9C299EC4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6E4-5144-4A3A-91ED-45C1CB9D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A76-5D4E-4252-B2AF-B2F94C14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97EE-5F6B-44D1-A431-F53EAC24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6A4-8D45-4EBE-91F7-4A0352A3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D9CB-245F-4A1C-ADA3-63DB20A0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37A-3E25-4777-AC56-7CB7F732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6F8-572B-4D0A-9E8E-C3B281E4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62C8-E40F-4536-8666-D5B1B90849C1}" type="slidenum">
              <a:rPr b="0" lang="sv-S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Questo è un programma automatico per la gestione della remunerazione 2008.Rispondete per favore alle seguenti domande.Le vostre risposte saranno la base di discussio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er continuare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164360" y="6308640"/>
            <a:ext cx="16477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ww.carloneworld.it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Ritenete che il vostro stipendio sia conforme alle vostre prestazioni e capacit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1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Ritenete che il vostro stipendio sia conforme alle vostre prestazioni e capacit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Ritenete che il vostro stipendio sia conforme alle vostre prestazioni e capacit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olto bene! Passiamo ora al Bonus 2007. Ritenete di meritarvel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olto bene! Passiamo ora al Bonus 2007. Ritenete di meritarvel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Molto bene! Passiamo ora al Bonus 2007. Ritenete di meritarvel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04240" y="6095880"/>
            <a:ext cx="47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Cliccate sulla casella corrispondente alla vostra rispos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Bene! Mi fa molto piacere essere d’accordo con voi. 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Ora tornate al lavo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Buona giorn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Il Ca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Per continua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8520" y="4800600"/>
            <a:ext cx="80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La vostra risposta è stata inoltrata automaticamente all’ufficio del personale.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razie per le vostre risposte.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Il vostro stipendio rimarrà di conseguenza invariato nel 2008.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bbiamo inoltre preso atto della vostra volontaria rinuncia al BONUS per l’esercizio 200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04000" y="6308640"/>
            <a:ext cx="20829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ww.carloneworld.i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xit" presetID="24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/>
  <dc:description>www.carloneworld.it</dc:description>
  <dc:language>en-US</dc:language>
  <cp:lastModifiedBy>Carlo</cp:lastModifiedBy>
  <dcterms:modified xsi:type="dcterms:W3CDTF">2007-09-04T20:38:52Z</dcterms:modified>
  <cp:revision>31</cp:revision>
  <dc:subject/>
  <dc:title>Vuoi un aumento il prossimo anno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I:\Dati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